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07920" y="739440"/>
            <a:ext cx="491040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69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ADE32-7623-4DCE-B4E2-92AE8F82BC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7920" y="739800"/>
            <a:ext cx="4913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7920" y="739800"/>
            <a:ext cx="4913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7AC-8CAF-4635-8C16-DC55514B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D63-F978-4D23-9847-F5EC5523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57B-2615-4356-92CF-C1B90508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9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9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AAD-0B96-4370-9735-DE24E632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1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C2C-B705-48EB-8A7A-9E2E17EC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16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9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16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9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F1B-72E1-4DCA-8F53-0E35B2CE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F7C-F2E6-496D-BC67-9B54478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387-9130-4881-A1E1-FF8F53C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1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2AE-0328-4701-A9CD-A92C0C7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262-EEAA-441A-89D3-F1779BB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597-0730-4C79-B5DB-D831085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28C-A6F8-4B6D-B791-2A98489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066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34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880"/>
            <a:ext cx="89712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CD6BDAAF-5ED1-4ACA-9F6F-D526307CAAD8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54760" cy="19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Dynamic scheduling of the e-EVN: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a progress re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152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nclusions and 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152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l components now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 participation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 similar process could fetch GPS data for clock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 is also progressing on real-time monitor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ibration using station temperatures is also possib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134-0B9F-48E5-A146-A6AD3182C0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 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6" idx="3"/>
            <a:endCxn id="147" idx="1"/>
          </p:cNvCxnSpPr>
          <p:nvPr/>
        </p:nvCxnSpPr>
        <p:spPr>
          <a:xfrm>
            <a:off x="2971440" y="240048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"/>
          <p:cNvCxnSpPr>
            <a:stCxn id="147" idx="2"/>
            <a:endCxn id="149" idx="0"/>
          </p:cNvCxnSpPr>
          <p:nvPr/>
        </p:nvCxnSpPr>
        <p:spPr>
          <a:xfrm>
            <a:off x="6286680" y="2743200"/>
            <a:ext cx="2160" cy="1829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0" name=""/>
          <p:cNvCxnSpPr>
            <a:stCxn id="146" idx="2"/>
            <a:endCxn id="151" idx="0"/>
          </p:cNvCxnSpPr>
          <p:nvPr/>
        </p:nvCxnSpPr>
        <p:spPr>
          <a:xfrm>
            <a:off x="2171880" y="2743200"/>
            <a:ext cx="2160" cy="1829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2" name=""/>
          <p:cNvCxnSpPr>
            <a:stCxn id="151" idx="3"/>
            <a:endCxn id="149" idx="1"/>
          </p:cNvCxnSpPr>
          <p:nvPr/>
        </p:nvCxnSpPr>
        <p:spPr>
          <a:xfrm>
            <a:off x="2971440" y="491508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371600" y="20574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5720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-fi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st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5720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-fi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572000"/>
            <a:ext cx="536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057400"/>
            <a:ext cx="536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657600"/>
            <a:ext cx="763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376884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0574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st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CF2-4EE5-4F7F-8F47-4974A685F4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Batch” mode schedu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F60-0706-40C0-B241-420EB304A9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221-B27F-4D28-BF1D-550D9B09A2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152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152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pagate new schedule to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and inject new schedule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Charter"/>
              </a:rPr>
              <a:t>(New!)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Historically-accurate vex file for correlator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F7E-AB07-49A7-9517-1896E2D101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72200" y="1600200"/>
            <a:ext cx="20574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828800"/>
            <a:ext cx="502920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057400"/>
            <a:ext cx="1600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05740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073320"/>
            <a:ext cx="1374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>
            <a:off x="1828800" y="223524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4" name=""/>
          <p:cNvCxnSpPr>
            <a:stCxn id="111" idx="3"/>
            <a:endCxn id="115" idx="1"/>
          </p:cNvCxnSpPr>
          <p:nvPr/>
        </p:nvCxnSpPr>
        <p:spPr>
          <a:xfrm>
            <a:off x="3200400" y="2235240"/>
            <a:ext cx="915120" cy="2160"/>
          </a:xfrm>
          <a:prstGeom prst="curvedConnector5">
            <a:avLst>
              <a:gd name="adj1" fmla="val 49980"/>
              <a:gd name="adj2" fmla="val 40000"/>
              <a:gd name="adj3" fmla="val 4998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6" name=""/>
          <p:cNvCxnSpPr>
            <a:stCxn id="112" idx="3"/>
            <a:endCxn id="115" idx="1"/>
          </p:cNvCxnSpPr>
          <p:nvPr/>
        </p:nvCxnSpPr>
        <p:spPr>
          <a:xfrm flipV="1">
            <a:off x="2746080" y="2234880"/>
            <a:ext cx="1369080" cy="10166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114800" y="205740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170172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18" name=""/>
          <p:cNvCxnSpPr>
            <a:stCxn id="115" idx="3"/>
            <a:endCxn id="117" idx="1"/>
          </p:cNvCxnSpPr>
          <p:nvPr/>
        </p:nvCxnSpPr>
        <p:spPr>
          <a:xfrm flipV="1">
            <a:off x="5029200" y="1879200"/>
            <a:ext cx="1829520" cy="3564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9" name=""/>
          <p:cNvCxnSpPr>
            <a:stCxn id="117" idx="2"/>
            <a:endCxn id="120" idx="0"/>
          </p:cNvCxnSpPr>
          <p:nvPr/>
        </p:nvCxnSpPr>
        <p:spPr>
          <a:xfrm flipH="1">
            <a:off x="7306920" y="205704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858000" y="2743200"/>
            <a:ext cx="900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21" name=""/>
          <p:cNvCxnSpPr>
            <a:stCxn id="120" idx="2"/>
            <a:endCxn id="122" idx="0"/>
          </p:cNvCxnSpPr>
          <p:nvPr/>
        </p:nvCxnSpPr>
        <p:spPr>
          <a:xfrm>
            <a:off x="7307280" y="3098520"/>
            <a:ext cx="123120" cy="889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629400" y="3987720"/>
            <a:ext cx="1600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898640" y="1371600"/>
            <a:ext cx="617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1244520"/>
            <a:ext cx="1143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828800"/>
            <a:ext cx="88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log2vex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2674800"/>
            <a:ext cx="1074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vexmerge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1760400"/>
            <a:ext cx="569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217600"/>
            <a:ext cx="704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360600"/>
            <a:ext cx="1600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inject_snap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30" name=""/>
          <p:cNvCxnSpPr>
            <a:stCxn id="122" idx="1"/>
            <a:endCxn id="131" idx="3"/>
          </p:cNvCxnSpPr>
          <p:nvPr/>
        </p:nvCxnSpPr>
        <p:spPr>
          <a:xfrm flipH="1">
            <a:off x="3887280" y="4165200"/>
            <a:ext cx="2742480" cy="585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5" idx="2"/>
            <a:endCxn id="131" idx="0"/>
          </p:cNvCxnSpPr>
          <p:nvPr/>
        </p:nvCxnSpPr>
        <p:spPr>
          <a:xfrm flipH="1">
            <a:off x="3217320" y="2412720"/>
            <a:ext cx="1354680" cy="21596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548080" y="4572000"/>
            <a:ext cx="133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rrelator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89640" y="4121280"/>
            <a:ext cx="1547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eVLBI networks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217-CF21-4461-A7E2-E868B69E19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6980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log2ve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170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urns schedule 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skd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) files into vex 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vix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) fi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dds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$CLOCK, $TAPELOG_OBS, $EOP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block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$CLOCK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block based on station GPS data for batch VLBI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lock-searching is used instead for eVLBI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uns at JIVE; written in Per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A96-7488-46D8-8892-04E33FA2AB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exmer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erges original vex file and new schedu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duces updated historically-accurate vex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uns at JIVE; 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DC0-DE99-4DDD-AB8C-EAEBDAA24B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rudge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: vex file </a:t>
            </a:r>
            <a:r>
              <a:rPr b="0" lang="en-GB" sz="2400" spc="-1" strike="noStrike">
                <a:solidFill>
                  <a:srgbClr val="000000"/>
                </a:solidFill>
                <a:latin typeface="Dingbats"/>
                <a:ea typeface="Dingbats"/>
              </a:rPr>
              <a:t>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 snap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  <a:ea typeface="Dingbats"/>
              </a:rPr>
              <a:t>inject_snap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: stops/starts use of snap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FS commands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run from JIVE scrip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use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  <a:ea typeface="Dingbats"/>
              </a:rPr>
              <a:t>ssh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 in single-command mode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no login session on FS computer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CBF-B410-45BD-A5BC-24C7FB9B05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hursday, 28 August 2008 eVLBI sessi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ources: DA193, 4C39.25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: Torun, Westerbork (single-dish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ringes obtained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ADF-760A-45FF-B505-7AE11435DB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